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56" spc="-1" strike="noStrike">
                <a:solidFill>
                  <a:srgbClr val="000000"/>
                </a:solidFill>
                <a:latin typeface="Arial"/>
              </a:defRPr>
            </a:pPr>
            <a:r>
              <a:rPr b="0" sz="1356" spc="-1" strike="noStrike">
                <a:solidFill>
                  <a:srgbClr val="000000"/>
                </a:solidFill>
                <a:latin typeface="Arial"/>
              </a:rPr>
              <a:t>GUAICURU</a:t>
            </a:r>
          </a:p>
        </c:rich>
      </c:tx>
      <c:layout>
        <c:manualLayout>
          <c:xMode val="edge"/>
          <c:yMode val="edge"/>
          <c:x val="0.449194983651339"/>
          <c:y val="0.020116463737427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495054012665"/>
          <c:y val="0.165813775660255"/>
          <c:w val="0.959852655105335"/>
          <c:h val="0.81389330039409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Guaicuru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2008 agosto</c:v>
                </c:pt>
                <c:pt idx="1">
                  <c:v>2008 setembro</c:v>
                </c:pt>
                <c:pt idx="2">
                  <c:v>2008 outubro</c:v>
                </c:pt>
                <c:pt idx="3">
                  <c:v>2008 novembro</c:v>
                </c:pt>
                <c:pt idx="4">
                  <c:v>2009 março</c:v>
                </c:pt>
                <c:pt idx="5">
                  <c:v>2009 abril</c:v>
                </c:pt>
                <c:pt idx="6">
                  <c:v>2009 maio</c:v>
                </c:pt>
                <c:pt idx="7">
                  <c:v>2009 junh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43.55</c:v>
                </c:pt>
                <c:pt idx="1">
                  <c:v>8.87</c:v>
                </c:pt>
                <c:pt idx="2">
                  <c:v>9.52</c:v>
                </c:pt>
                <c:pt idx="3">
                  <c:v>41.46</c:v>
                </c:pt>
                <c:pt idx="4">
                  <c:v>47.32</c:v>
                </c:pt>
                <c:pt idx="5">
                  <c:v>53.72</c:v>
                </c:pt>
                <c:pt idx="6">
                  <c:v>96.08</c:v>
                </c:pt>
                <c:pt idx="7">
                  <c:v>84.68</c:v>
                </c:pt>
              </c:numCache>
            </c:numRef>
          </c:val>
        </c:ser>
        <c:gapWidth val="100"/>
        <c:overlap val="0"/>
        <c:axId val="42678619"/>
        <c:axId val="3907808"/>
      </c:barChart>
      <c:catAx>
        <c:axId val="4267861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7808"/>
        <c:crossesAt val="0"/>
        <c:auto val="1"/>
        <c:lblAlgn val="ctr"/>
        <c:lblOffset val="100"/>
        <c:noMultiLvlLbl val="0"/>
      </c:catAx>
      <c:valAx>
        <c:axId val="3907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7861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289" spc="-1" strike="noStrike">
                <a:solidFill>
                  <a:srgbClr val="000000"/>
                </a:solidFill>
                <a:latin typeface="Arial"/>
              </a:defRPr>
            </a:pPr>
            <a:r>
              <a:rPr b="0" sz="2289" spc="-1" strike="noStrike">
                <a:solidFill>
                  <a:srgbClr val="000000"/>
                </a:solidFill>
                <a:latin typeface="Arial"/>
              </a:rPr>
              <a:t>GUAICURU 2008</a:t>
            </a:r>
          </a:p>
        </c:rich>
      </c:tx>
      <c:layout>
        <c:manualLayout>
          <c:xMode val="edge"/>
          <c:yMode val="edge"/>
          <c:x val="0.378904843806248"/>
          <c:y val="0.019832231542692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792048318067"/>
          <c:y val="0.16710182767624"/>
          <c:w val="0.786328546858126"/>
          <c:h val="0.79278928948391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PONIVEL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Agosto</c:v>
                </c:pt>
                <c:pt idx="1">
                  <c:v>Setembro</c:v>
                </c:pt>
                <c:pt idx="2">
                  <c:v>Outubro</c:v>
                </c:pt>
                <c:pt idx="3">
                  <c:v>Novembro</c:v>
                </c:pt>
                <c:pt idx="4">
                  <c:v>TOTA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124</c:v>
                </c:pt>
                <c:pt idx="1">
                  <c:v>124</c:v>
                </c:pt>
                <c:pt idx="2">
                  <c:v>42</c:v>
                </c:pt>
                <c:pt idx="3">
                  <c:v>123</c:v>
                </c:pt>
                <c:pt idx="4">
                  <c:v>41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UTILIZADA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Agosto</c:v>
                </c:pt>
                <c:pt idx="1">
                  <c:v>Setembro</c:v>
                </c:pt>
                <c:pt idx="2">
                  <c:v>Outubro</c:v>
                </c:pt>
                <c:pt idx="3">
                  <c:v>Novembro</c:v>
                </c:pt>
                <c:pt idx="4">
                  <c:v>TOTAL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54</c:v>
                </c:pt>
                <c:pt idx="1">
                  <c:v>11</c:v>
                </c:pt>
                <c:pt idx="2">
                  <c:v>4</c:v>
                </c:pt>
                <c:pt idx="3">
                  <c:v>51</c:v>
                </c:pt>
                <c:pt idx="4">
                  <c:v>120</c:v>
                </c:pt>
              </c:numCache>
            </c:numRef>
          </c:val>
        </c:ser>
        <c:gapWidth val="100"/>
        <c:overlap val="0"/>
        <c:axId val="74166012"/>
        <c:axId val="54279474"/>
      </c:barChart>
      <c:catAx>
        <c:axId val="7416601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79474"/>
        <c:crossesAt val="0"/>
        <c:auto val="1"/>
        <c:lblAlgn val="ctr"/>
        <c:lblOffset val="100"/>
        <c:noMultiLvlLbl val="0"/>
      </c:catAx>
      <c:valAx>
        <c:axId val="54279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6601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26206951721931"/>
          <c:y val="0.380201099938892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408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417" spc="-1" strike="noStrike">
                <a:solidFill>
                  <a:srgbClr val="000000"/>
                </a:solidFill>
                <a:latin typeface="Arial"/>
              </a:defRPr>
            </a:pPr>
            <a:r>
              <a:rPr b="0" sz="2417" spc="-1" strike="noStrike">
                <a:solidFill>
                  <a:srgbClr val="000000"/>
                </a:solidFill>
                <a:latin typeface="Arial"/>
              </a:rPr>
              <a:t>GUAICURU 2009</a:t>
            </a:r>
          </a:p>
        </c:rich>
      </c:tx>
      <c:layout>
        <c:manualLayout>
          <c:xMode val="edge"/>
          <c:yMode val="edge"/>
          <c:x val="0.37685345657616"/>
          <c:y val="0.0200410814411814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729058347776"/>
          <c:y val="0.156164991950258"/>
          <c:w val="0.78367032543809"/>
          <c:h val="0.80369732970632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PONIVEL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Junho</c:v>
                </c:pt>
                <c:pt idx="4">
                  <c:v>TOTA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112</c:v>
                </c:pt>
                <c:pt idx="1">
                  <c:v>121</c:v>
                </c:pt>
                <c:pt idx="2">
                  <c:v>102</c:v>
                </c:pt>
                <c:pt idx="3">
                  <c:v>111</c:v>
                </c:pt>
                <c:pt idx="4">
                  <c:v>446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UTILIZADA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Junho</c:v>
                </c:pt>
                <c:pt idx="4">
                  <c:v>TOTAL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53</c:v>
                </c:pt>
                <c:pt idx="1">
                  <c:v>65</c:v>
                </c:pt>
                <c:pt idx="2">
                  <c:v>98</c:v>
                </c:pt>
                <c:pt idx="3">
                  <c:v>94</c:v>
                </c:pt>
                <c:pt idx="4">
                  <c:v>310</c:v>
                </c:pt>
              </c:numCache>
            </c:numRef>
          </c:val>
        </c:ser>
        <c:gapWidth val="100"/>
        <c:overlap val="0"/>
        <c:axId val="27390225"/>
        <c:axId val="41089135"/>
      </c:barChart>
      <c:catAx>
        <c:axId val="2739022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89135"/>
        <c:crossesAt val="0"/>
        <c:auto val="1"/>
        <c:lblAlgn val="ctr"/>
        <c:lblOffset val="100"/>
        <c:noMultiLvlLbl val="0"/>
      </c:catAx>
      <c:valAx>
        <c:axId val="410891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9022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23608704024649"/>
          <c:y val="0.39055126852828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487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B70E0-2C61-405F-A0AC-5A5E8A6A3A8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A8D4-271D-47F3-81BD-1079E29E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559E-8309-4060-A121-B6FBE1B3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E48-8EE8-43A0-8B5A-C796B165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C7B2-2B1C-4B21-B8AC-64BAF825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2637-58BC-4632-BCA6-361A2533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D8E8-FBBB-499D-A520-93561C46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1B6D-2397-4170-8BF1-05899C31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68F-DB7E-4BB5-AAF3-FB7DACBF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33280"/>
            <a:ext cx="9066240" cy="64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6D67-FC3B-4544-9639-45E7225F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1BC1-DE3A-4162-950D-2ECF65D9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EDAD-15D9-46BC-B253-495C8BF4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1DB0-8087-462B-85BA-9416F4F6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E7D81-43AF-4A4D-A007-4E1E6007B55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62040" y="539640"/>
          <a:ext cx="8697960" cy="612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39640" y="539640"/>
          <a:ext cx="8999640" cy="648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72960" y="534960"/>
          <a:ext cx="9347400" cy="64850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